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735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ldImg"/>
          </p:nvPr>
        </p:nvSpPr>
        <p:spPr>
          <a:xfrm>
            <a:off x="669960" y="738000"/>
            <a:ext cx="5310000" cy="36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704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3774960" y="-360"/>
            <a:ext cx="28735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9340920"/>
            <a:ext cx="2873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3774960" y="9340920"/>
            <a:ext cx="2873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EFD3B-56EE-4B10-9522-35795E4831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69960" y="738360"/>
            <a:ext cx="5313240" cy="36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69960" y="738360"/>
            <a:ext cx="5313240" cy="36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69960" y="738360"/>
            <a:ext cx="5313240" cy="36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69960" y="738360"/>
            <a:ext cx="5313240" cy="36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2680" y="412992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500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848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270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26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848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270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4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056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4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4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500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42680" y="412992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500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848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270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426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848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270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056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4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500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2920" y="0"/>
            <a:ext cx="156816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5240" y="1752480"/>
            <a:ext cx="511812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25480" y="762120"/>
            <a:ext cx="90788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54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8640" indent="-27144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54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43040" y="6172200"/>
            <a:ext cx="2063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384720" y="6172200"/>
            <a:ext cx="3136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99200" y="6172200"/>
            <a:ext cx="2063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131320" y="0"/>
            <a:ext cx="163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PRJ POMELA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12920" y="0"/>
            <a:ext cx="156816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43040" y="1981080"/>
            <a:ext cx="9161280" cy="14479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2133360"/>
            <a:ext cx="8405640" cy="11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3040" y="6172200"/>
            <a:ext cx="2063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84720" y="6172200"/>
            <a:ext cx="3136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99200" y="6172200"/>
            <a:ext cx="2063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511812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95360" y="1604880"/>
            <a:ext cx="8902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4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8640" indent="-27144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54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43040" y="1197360"/>
            <a:ext cx="89629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e5ebf7"/>
                </a:solidFill>
                <a:latin typeface="Times New Roman"/>
              </a:rPr>
              <a:t>POMELAJ – ZADRUGA ZA RAZVOJ PODEŽELJ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e5ebf7"/>
                </a:solidFill>
                <a:latin typeface="Times New Roman"/>
              </a:rPr>
              <a:t>PRIMER OBLIKOVANJA NOVEGA POKLICNEGA PROFI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48520" y="6237360"/>
            <a:ext cx="172728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Alenka STUPAR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DART, Lendava, d.o.o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040520" y="0"/>
            <a:ext cx="2865600" cy="19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0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ATALOG - PLETAR/PLETARK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0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ločitev področij del: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delovanje koruz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prava surovine za pleten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konstruiranje/oblikovanje izdel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eten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ržen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LJUČNA DELA IN NALOG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4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2680" y="465120"/>
            <a:ext cx="842004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Izhodišča za oblikovanje novega poklicnega profil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30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ganiziran projekt za realizacijo že zastavljene iniciative lokalne skupnosti za razvoj perspektivne dejavnosti na osnovi lokalnih razvojnih potencialov – tradicije domače obrti (lončarstvo, pletarstv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gotovljene potrebe po novih znanjih in spretnostih za opravljanje dejav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Izhodišča za oblikovanje novega poklicnega profil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zdelani programi usposabljanj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Vzpostavljena in delujoča učna delavnica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Zakon o Nacionalnih poklicnih kvalifikacija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0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RITERIJI ZA IZBOR NOVIH POKLICNIH PROFILOV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3040" y="1980720"/>
            <a:ext cx="8408880" cy="19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erspektivnost dejavnosti glede na nove potrebe trg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število potencialnih kandidatov za NP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radicija  na področju izdelovanja izdelkov domačih obr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0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IZBRANA NOVA POKLICNA PROFIL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3040" y="1980720"/>
            <a:ext cx="8408880" cy="19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ončar/lončar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etar/pletarka iz ličj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0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OSTOPEK OBLIKOVANJA POKLICNEGA STANDARD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08880" cy="34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prava pobude (pobudo je pripravil nosilec projekta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menovanje delovne skupine za pripravo kataloga standardov strokovnih znanj in spretnosti ( številni partnerj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trokovna pomoč s strani CP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prava Kataloga standardov strokovnih znanj in spretnosti za P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otrditev na Strokovnem svetu RS za poklicno in strokovno izobraževan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iprava pobu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klopi tipičnih del v poklic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cena potreb na trgu dela glede na dolgoročni razvoj gospodarstva oz. dejavnost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avna podlaga oz. predpisi v SLO in državah E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dnarodna primerljivo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blikovalci pobu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Oblikovanje poklicnega standard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me in koda pokl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aven zahtev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oklicne kompete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pis poklicnega standar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cbcbcb"/>
                </a:solidFill>
                <a:latin typeface="Times New Roman"/>
              </a:rPr>
              <a:t>OPIS POKLICNEGA STANDARDA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odročja del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ključna del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znanja in spret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( naloge za dokazovanje usposobljenost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